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7157-9A50-46BA-BF79-5EE646B82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D777-FD49-4995-BEDC-A5BDEB87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A91D-18A6-4BAD-B132-CCD25BC18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8B36-C5CC-45D0-924F-984A9D4C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45E1-8F26-4954-8B35-D09C74C4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257E-3B65-4518-B8EF-4BCE5CF7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F86B-F72B-43A3-8D93-980CC5B4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F9EC-1CBE-4A6F-8235-22B62C50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B218-890E-4696-A0EC-378DEF42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C8DA-947C-4BF8-A103-8A2D50F8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161B-D1BF-49F0-829B-73BA8F32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88A5-7A89-4D94-872B-C2A18DF6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E582-1704-4880-9301-C10C9824C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280656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itu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11640" y="2060280"/>
            <a:ext cx="396072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ttitude is a predisposition to act or feel a certain way towards a person or 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3139920" cy="316692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 - difficult &amp; time consu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a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npoint importnat attributes &amp;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direction for further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 reporting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rt - degree of agreement with a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antic differential - opposite ad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k order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 sum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356000" y="333360"/>
            <a:ext cx="2016360" cy="169848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titude Profi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67071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dimensional based on feel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y vs unhealthy break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r in commercial market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be a lot more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 attribute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key ATTRIBUTES used to judge some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 the brands on these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important is each attribu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435640" y="404640"/>
            <a:ext cx="2951280" cy="217044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attribut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476360" y="1484280"/>
            <a:ext cx="6408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college has great fac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agree |__|__|__|__|__|__|__| A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ongly     1  2   3  4     5   6   7  strong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achers at this college are highly profess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agree |__|__|__|__|__|__|__| A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ongly     1  2    3  4    5   6   7  strong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urses are recognised by emplo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agree |__|__|__|__|__|__|__| A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ongly     1   2      4    5   6    7  strong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lege is easy to get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agree |__|__|__|__|__|__|__| A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ongly    1   2   3   4   5   6    7  strong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33098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nake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9280" y="5660640"/>
            <a:ext cx="799308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shbein type models SUM of Score X Importance on all attribu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-146160" y="1268280"/>
          <a:ext cx="9290160" cy="434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6160" y="1268280"/>
                    <a:ext cx="9290160" cy="43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6000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itude change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Basic Motivational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ociating the Product With an Admired Group or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lving Two Conflicting Attit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ing Components of the Multiattribut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Beliefs About Competitors’ Br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ur Basic Attitud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utilitar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at it will do for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go defens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elps protect customer self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value express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flects customers general values, lifestyle or at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knowled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ater to customer need to kn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ssociate with a special group, event or caus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g. famous people who attended T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ssociate with Football, Olympic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lating two conflicting attit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g. Do you want a status course or a jo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Alter components of the multi attribute mode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hange the evaluation of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g. you'll get a job with T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hanging broad belie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g. TAFE is more than this is how we hold the dr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dding a new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g. social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hange the overall brand r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g. the one personnel companies go to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hange beliefs about competing b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itud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504036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n emotional charge + or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 within a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not be measured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 reporting or i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lea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temporary - more or less end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19640" y="549360"/>
            <a:ext cx="3240000" cy="2663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56360" y="76500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12000" y="1268280"/>
            <a:ext cx="1657080" cy="1368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57440" y="162864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156360" y="3429000"/>
            <a:ext cx="1455840" cy="287964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itudes are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absence of existing attitude we are open to sugg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3068640"/>
            <a:ext cx="2592360" cy="1657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2040" y="3500280"/>
            <a:ext cx="240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object of attitu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88000" y="2781360"/>
            <a:ext cx="3529080" cy="2592360"/>
          </a:xfrm>
          <a:prstGeom prst="irregularSeal2">
            <a:avLst/>
          </a:prstGeom>
          <a:solidFill>
            <a:srgbClr val="ff00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34560" y="3645000"/>
            <a:ext cx="235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itive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al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573360"/>
            <a:ext cx="1726920" cy="719280"/>
          </a:xfrm>
          <a:prstGeom prst="rightArrow">
            <a:avLst>
              <a:gd name="adj1" fmla="val 50000"/>
              <a:gd name="adj2" fmla="val 600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020000" y="4724280"/>
            <a:ext cx="93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1477080" y="5300640"/>
            <a:ext cx="459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ion of a + att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effec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519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respected source helps formation of an att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ept attempt to teach an attitude can lead to a negative reaction eg. anti drug a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683320" y="1413000"/>
            <a:ext cx="2817720" cy="388764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itude stability depends 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40000" y="1599840"/>
            <a:ext cx="46083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closely it's linked with other attitud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ledge - cognitive asp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gree of liking/disliking - affective asp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3168720" cy="287676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nut butter examp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gnitive (Knowled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jar for the mon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oil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mier and easier to sp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ive (Emot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tty l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ike those teddy bear pres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component model: sum of cognitive X affective leading to a 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027840" y="836640"/>
            <a:ext cx="2468520" cy="266364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titudes can be formed to preserve balance in our self im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2920" y="1557360"/>
            <a:ext cx="403236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t with other attitudes, values, information accepted, what we 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in these may cause a readjustment of an at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.  Johnny Cash for Ripple W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ly Jean King for sports cloth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628640"/>
            <a:ext cx="3959280" cy="439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9600" y="1989000"/>
            <a:ext cx="194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00000" y="2565360"/>
            <a:ext cx="3095640" cy="2664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94880" y="270828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i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87280" y="3284640"/>
            <a:ext cx="2664000" cy="1657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93440" y="3357720"/>
            <a:ext cx="156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6360" y="3860640"/>
            <a:ext cx="1871640" cy="792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37080" y="4005360"/>
            <a:ext cx="126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titude to object vs attitude to a behaviou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24000" y="1844640"/>
            <a:ext cx="6491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ttitude-toward-object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itude is function of evaluation of product -specific beliefs and eval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ttitude-toward-behavior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attitude toward behaving or acting with respect to an object, rather than the attitude toward the object itsel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: Rolls Royce 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ur: purchasing a Rolls Roy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1942920" cy="1219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8360" y="3500280"/>
            <a:ext cx="1727280" cy="167004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icomponent Attitude Model (AB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fect (How I feel about it)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havioural tendency (Conative), 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nitions (what I think or know) about likely consequences of 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484360" y="1341360"/>
          <a:ext cx="8640720" cy="4867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341360"/>
                    <a:ext cx="8640720" cy="48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4575600" y="2852640"/>
            <a:ext cx="222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FEC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eel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07600" y="2781360"/>
            <a:ext cx="199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83240" y="4508640"/>
            <a:ext cx="2131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G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8T09:29:47Z</dcterms:created>
  <dc:creator>Dinesh</dc:creator>
  <dc:description/>
  <dc:language>en-US</dc:language>
  <cp:lastModifiedBy>Lokesh</cp:lastModifiedBy>
  <dcterms:modified xsi:type="dcterms:W3CDTF">2008-02-05T07:23:16Z</dcterms:modified>
  <cp:revision>14</cp:revision>
  <dc:subject/>
  <dc:title>Attitudes</dc:title>
</cp:coreProperties>
</file>